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11A-BB7A-4592-BBFE-21AB119B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AD5-3D20-463E-B1A7-0F2EAABA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D9D-937B-4DC1-B5FB-1F59826B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5A8-F2CA-47EB-9CC0-2319A1B7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671-98E1-48C3-8686-9034ED54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B7E-DE1F-4CD3-998D-4EB594BD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1F8-AFD4-4319-B056-54B98548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2F7-3DD3-400A-8E94-61005195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9E2-7D63-4495-9D7F-1815C919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9B2-326D-45B3-81CF-6A7BDEB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DC0-959F-4C2F-A3A6-D4B43DD6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754-6E37-4A43-9DD2-2D1A9713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6B40-6078-472B-ACF1-75AA4BA32BF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Doubles!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en you see a number, you must double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6699240" y="2523960"/>
            <a:ext cx="2249640" cy="191484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554040" y="171360"/>
            <a:ext cx="2128680" cy="14320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3"/>
          <a:stretch/>
        </p:blipFill>
        <p:spPr>
          <a:xfrm>
            <a:off x="1584360" y="4962600"/>
            <a:ext cx="20304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990720" y="1752480"/>
            <a:ext cx="7696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143000" y="1752480"/>
            <a:ext cx="6781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219320" y="1752480"/>
            <a:ext cx="7010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GO!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davidl.cogswell\AppData\Local\Microsoft\Windows\Temporary Internet Files\Content.IE5\Z7QGQ8E3\MP900448675[1].jpg"/>
          <p:cNvPicPr/>
          <p:nvPr/>
        </p:nvPicPr>
        <p:blipFill>
          <a:blip r:embed="rId1"/>
          <a:stretch/>
        </p:blipFill>
        <p:spPr>
          <a:xfrm>
            <a:off x="0" y="2457360"/>
            <a:ext cx="4400640" cy="4400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219320" y="0"/>
            <a:ext cx="792468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00"/>
                </a:solidFill>
                <a:latin typeface="Calibri"/>
              </a:rPr>
              <a:t>Great Job!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alibri"/>
              </a:rPr>
              <a:t>How did you d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12:08:30Z</dcterms:created>
  <dc:creator>David Cogswell</dc:creator>
  <dc:description/>
  <dc:language>en-US</dc:language>
  <cp:lastModifiedBy>Province of NS</cp:lastModifiedBy>
  <dcterms:modified xsi:type="dcterms:W3CDTF">2012-07-09T14:24:56Z</dcterms:modified>
  <cp:revision>1</cp:revision>
  <dc:subject/>
  <dc:title>Doubles!</dc:title>
</cp:coreProperties>
</file>